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3E8-8863-4175-971B-4FD08853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8EE-A1CC-4A91-8461-01EA2A1A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DB6-12EB-49D2-A440-583D1BBA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BC0-6D1F-44B9-B63D-6A3A68AB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BD7-F617-47F8-BFB7-9EEE709E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2E8-FF8B-495D-93F1-1847664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11C-2BAE-4134-AA13-85C09E3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C119-5683-413F-9FE8-91DCB4F6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9790-B677-4A21-8CEC-F86AF49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5326-407F-4D07-8547-2F8EDC4D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6B35-8649-4E7A-B9FA-B2B7D96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07D-FAC9-4A52-976F-3ACABA1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C790-4D2A-4538-8C76-5508D0B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C26B-EAFD-4540-9FDE-7B187A7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EBB-3B30-4294-9F11-B23D2C8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8CA0-9682-4F55-85BA-B1857965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9EA0-B86E-41E9-B4DC-2412C955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481-D3B3-426F-BD09-871CA5E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C9B-056D-41CF-9D39-45CDA45B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21C-2A8D-4AC6-B565-18ED51C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B25-2538-4391-8271-69E25A8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D0A-66C0-47CB-9478-AE8909A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A04-A8F5-490D-9C2B-FC80F03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48A-529D-4E6B-A045-2D7E434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C28D-EB45-4199-8C0D-E1E5D0A4BDA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DD2-E700-4238-A7B5-CCF84548B84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9343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it 1- Non-Fi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Priority Standard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.5    Analyze in detail how an author’s ideas or claims are developed and refined by particular sentences, paragraphs, or larger portions of a text (e.g., a section or chap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.6    Determine an author’s point of view or purpose in a text and analyze how an author uses rhetoric to advance that point of view or 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.2    Write informative/explanatory texts to examine and convey complex ideas, concepts, and information clearly and accurately through the effective selection, organization, and analysis of con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3    Apply knowledge of language to understand how language functions in different contexts, to make effective choices for meaning or style, and to comprehend more fully when reading or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nd edit work so that it conforms to the guidelines in a style manual (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LA Hand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urabian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 for Wri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ppropriate for the discipline and writin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.1    Initiate and participate effectively in a range of collaborative discussions (one-on-one, in groups, and teacher-led) with diverse partners on grades 9–10 topics, texts, and issues, building on others’ ideas and expressing their own clearly and persuas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8:16:07Z</dcterms:created>
  <dc:creator>shimabukuroka</dc:creator>
  <dc:description/>
  <dc:language>en-US</dc:language>
  <cp:lastModifiedBy>shimabukuroka</cp:lastModifiedBy>
  <dcterms:modified xsi:type="dcterms:W3CDTF">2012-08-20T18:17:33Z</dcterms:modified>
  <cp:revision>2</cp:revision>
  <dc:subject/>
  <dc:title>Unit 1- Non-Fiction</dc:title>
</cp:coreProperties>
</file>